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770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ancoprovincia.com.ar/banco/crediticias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hyperlink" Target="http://www.bancoprovincia.com.ar/banco/crediticias.htm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869080" y="42840"/>
            <a:ext cx="3024000" cy="12254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826920" y="1916280"/>
            <a:ext cx="75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FINANCIAMIENTO PARA PY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ANCO PROVINCIA Y GRUPO BANCO PROVINCIA: DOS SOCIOS ESTRATÉ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5715000"/>
            <a:ext cx="4952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Dr. Juan Agustín Las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Junio de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8360" y="189000"/>
          <a:ext cx="367200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89000"/>
                    <a:ext cx="3672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360" y="3284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9528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1413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pital de trabajo (hasta 36 meses - vari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2205000"/>
            <a:ext cx="77040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o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Evolución y/o recomposición de capital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BADLAR + 5 puntos porcentuales (Mínimo 15% T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is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2% anual adelantada sobre sal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lazo y amortizac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asta 36 meses, con hasta 3 meses de gra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uotas mensuales de capital e inter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stema alem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092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2720" y="1268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ago de Hab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2205000"/>
            <a:ext cx="770400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o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Erogaciones estacionales relacionadas con el pago de sueldos, vacaciones y aguinaldos que acrediten en cuentas del Ban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9,9% TNAV FIJ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is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1% por única ve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lazo y amortizac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asta 6 m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uotas mensuales de capital e inter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stema alem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5092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268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scuento de Cheques de Pago Difer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2205000"/>
            <a:ext cx="77040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o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Evolución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on pactadas seman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Vigentes del 06/06 al 10/06, según plazos y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firmantes del che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sde 10,45% al 14,2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isión: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0,6% sobre el valor del cheque, mínimo $ 4.-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lazo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asta 180 d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00360" y="333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GEND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308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3"/>
          <p:cNvSpPr/>
          <p:nvPr/>
        </p:nvSpPr>
        <p:spPr>
          <a:xfrm>
            <a:off x="539640" y="2276640"/>
            <a:ext cx="815832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Necesidades Financieras de las Pequeñas y Median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39640" y="1601640"/>
            <a:ext cx="8191440" cy="6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538200" y="2889360"/>
            <a:ext cx="813744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Crédito para Evolución y Capital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539640" y="3500280"/>
            <a:ext cx="813600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4c5b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mercio Ex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517680" y="4113360"/>
            <a:ext cx="81579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Crédito para 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89000"/>
          <a:ext cx="270036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27003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395280" y="1916280"/>
            <a:ext cx="8064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24000" y="1916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2924280"/>
            <a:ext cx="5472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efinanciación de Export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Financiación de Export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Financiación de Import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468360" y="1341360"/>
            <a:ext cx="813744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4c5b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mercio Ex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5092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126828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efinanciación de Expor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2205000"/>
            <a:ext cx="828036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o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Ciclo productivo de bienes y servicios destinados a expor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 y Comis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a cotizar en cada c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mporte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85% del FOB de la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lazo y amortizac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asta 1 año o el correspondiente al cicl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agadera total o parcialmente en forma simultánea con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ingreso de las divi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092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76360" y="12682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inanciación de Expor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2205000"/>
            <a:ext cx="828036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o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Facilitar la colocación de bienes y servicios nacionales en mercados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 y Comis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a cotizar en cada c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mporte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100% de la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lazo y amortizac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forme al plazo de pago de la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agadera total o parcialmente en forma simultánea con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ingreso de las divi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5092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6360" y="12682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inanciación de Impor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1916280"/>
            <a:ext cx="82803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o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Facilitar la importación de bienes y servi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: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 cotiz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is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a cotiz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mporte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ienes de capital 85% de la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tros bienes y servicios 100% de la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lazo y amortizac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egún tipo de operación solicitada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700360" y="333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GEND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55308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3"/>
          <p:cNvSpPr/>
          <p:nvPr/>
        </p:nvSpPr>
        <p:spPr>
          <a:xfrm>
            <a:off x="539640" y="2276640"/>
            <a:ext cx="815832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Necesidades Financieras de las Pequeñas y Median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539640" y="1601640"/>
            <a:ext cx="8191440" cy="6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38200" y="2889360"/>
            <a:ext cx="813744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Crédito para Evolución y Capital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539640" y="3500280"/>
            <a:ext cx="813600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mercio Ex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17680" y="4113360"/>
            <a:ext cx="81579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4c5b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Crédito para 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89000"/>
          <a:ext cx="2771640" cy="61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27716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395280" y="1916280"/>
            <a:ext cx="8064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24000" y="1916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2852640"/>
            <a:ext cx="6624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Financiación de Inversiones en p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ograma Fuerza Produ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éstamos Hipotecarios – Inmuebles para uso comer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468360" y="1341360"/>
            <a:ext cx="813744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4c5b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Crédito para 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00360" y="333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GEND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55308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539640" y="2276640"/>
            <a:ext cx="815832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Necesidades Financieras de las Pequeñas y Median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539640" y="1601640"/>
            <a:ext cx="8191440" cy="6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4c5b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538200" y="2889360"/>
            <a:ext cx="813744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Crédito para Evolución y Capital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539640" y="3500280"/>
            <a:ext cx="813600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mercio Ex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517680" y="4113360"/>
            <a:ext cx="81579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Crédito para 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89000"/>
          <a:ext cx="2771640" cy="61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2771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5092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6920" y="1125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inanciación de Inversiones en p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2360" y="1844640"/>
            <a:ext cx="8640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o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ienes de capital nuevos y usados, nacionales y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xtranjeros, obra civ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: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DLAR + 5 puntos porcentuales (Mínimo 14,5% T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peraciones en moneda extranjera: a cotiz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is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2% anual adelantada sobre sal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orcentaje de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inanciación: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asta 100% de la inversión neta de 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lazo y amortizac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asta 84 meses, con hasta 6 meses de gra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agadero en forma mensual, trimestral o semes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stema alemán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98560" y="1268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ograma Fuerza Produ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916280"/>
            <a:ext cx="87854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atario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iPyMes, con asiento principal de sus negocios y/o desarrollo de su actividad mayoritariamente en la Provi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o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Financiación de Invers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2) Capital de Trabajo asoci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orcentaje de financiamiento: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sta el 100% de la inversión neta de IVA (para bienes usados: menor valor entre tasación o compr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isión de Acuerdo: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2% anual sobre sal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: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D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6629040"/>
            <a:ext cx="8388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Garamond"/>
              </a:rPr>
              <a:t>Continua en hoja 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5092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98560" y="1268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ograma Fuerza Produ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1916280"/>
            <a:ext cx="849636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Garamond"/>
              </a:rPr>
              <a:t>Contin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onto Máximo por Beneficiari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apital de Trabajo: hasta $600.000.- por benefici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versiones: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ersona Física: hasta $1.500.000.- por benefici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ersona Jurídica: hasta $6.000.000.- por benefici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áximos por beneficiario entre ambos destin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ersona Física: $1.500.000.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ersona Jurídica: $6.000.000.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lazos y Formas de Pag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apital de Trabajo: 12 meses con hasta 3 meses de gra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versiones: 60 meses con hasta 12 meses de gra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6629040"/>
            <a:ext cx="8388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Garamond"/>
              </a:rPr>
              <a:t>Continua en hoja sigu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92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8560" y="1268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ograma Fuerza Produ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1916280"/>
            <a:ext cx="84963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ontinu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ubprograma Parques Industriales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atarios:</a:t>
            </a: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iPyMes, con asiento principal de sus negocios y/o desarrollo de su actividad mayoritariamente en la Provincia de Buenos Aires, que se dediquen exclusivamente o mayoritariamente a actividades industr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o: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Financiación de Inversiones, para trasladar la empresa a un agrupamiento industrial reconocido por la Provincia o para ampliar, mejorar y ser parte de un emprendimiento situado en un agrupamiento industrial reconocido por la Provi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s: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DLAR menos 2 puntos porcent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5092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150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Préstamos Hipotecarios - Inmuebles uso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2349360"/>
            <a:ext cx="8280360" cy="42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o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ra, construcción, terminación, ampliación y/o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facción de inmuebles para us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: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 interés a plazo fijo  en $ a 30 días de plazo (tasa testigo)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Mínimo 15% TNA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is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de acuerdo: 2% del monto solicitado (mínimo $600.-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 administración: 3% sobre cada cuota.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porción Financiable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60% del valor del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lazo y amortizac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asta 120 m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uotas mensuales de capital e inter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stema francés.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869080" y="42840"/>
            <a:ext cx="3024000" cy="1225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826920" y="1916280"/>
            <a:ext cx="756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89000"/>
          <a:ext cx="3672000" cy="81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89000"/>
                    <a:ext cx="3672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574360" y="4313160"/>
            <a:ext cx="43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55440" y="2924280"/>
            <a:ext cx="57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Fin de l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95280" y="206064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Fundado en 1822, es la entidad financiera más antigua de Latinoamé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 propiedad de la Provincia de Buenos Aires y actúa como su agente financi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pera en el segmento minorista, buscando asegurar el liderazgo con las Pequeñas y Medianas Empresas y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antiene una fuerte y arraigada imagen institu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o grado de pertenencia por parte de la población y del sector productivo de la Provi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ostenido posicionamiento general en el sistema financiero argent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mplia 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d de sucursales. Exclusividad en algunas local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rupo Banco Provincia con servicios y productos diversificados y complemen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AutoShape 5"/>
          <p:cNvSpPr/>
          <p:nvPr/>
        </p:nvSpPr>
        <p:spPr>
          <a:xfrm>
            <a:off x="395280" y="1268280"/>
            <a:ext cx="8191440" cy="6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4c5b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00360" y="333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GEND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5308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5"/>
          <p:cNvSpPr/>
          <p:nvPr/>
        </p:nvSpPr>
        <p:spPr>
          <a:xfrm>
            <a:off x="539640" y="1601640"/>
            <a:ext cx="8191440" cy="6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539640" y="2924280"/>
            <a:ext cx="813780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Crédito para Evolución y Capital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539640" y="3500280"/>
            <a:ext cx="813600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mercio Ex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517680" y="4113360"/>
            <a:ext cx="81579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Crédito para 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539640" y="2276640"/>
            <a:ext cx="8191440" cy="60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4c5b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Necesidades Financieras de las Pequeñas y Median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4920" y="260280"/>
          <a:ext cx="2736720" cy="6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260280"/>
                    <a:ext cx="27367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95280" y="1916280"/>
            <a:ext cx="8497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68360" y="1989000"/>
          <a:ext cx="8207280" cy="4176360"/>
        </p:xfrm>
        <a:graphic>
          <a:graphicData uri="http://schemas.openxmlformats.org/drawingml/2006/table">
            <a:tbl>
              <a:tblPr/>
              <a:tblGrid>
                <a:gridCol w="2193840"/>
                <a:gridCol w="1405080"/>
                <a:gridCol w="4352760"/>
                <a:gridCol w="255600"/>
              </a:tblGrid>
              <a:tr h="670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CES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92cb1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92cb13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92cb1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ol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enta Corri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j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008000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92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er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financiación de Expor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iación de Expor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iación de Import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9360">
                      <a:solidFill>
                        <a:srgbClr val="008000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1368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Traba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to /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éstamos Amortiz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8000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8000"/>
                      </a:solidFill>
                    </a:lnL>
                    <a:lnR w="93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iación de Proy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AutoShape 5"/>
          <p:cNvSpPr/>
          <p:nvPr/>
        </p:nvSpPr>
        <p:spPr>
          <a:xfrm>
            <a:off x="468360" y="1197000"/>
            <a:ext cx="8191440" cy="6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4c5b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Necesidades Financieras de las Pequeñas y Median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700360" y="333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GEND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5308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/>
          <p:cNvSpPr/>
          <p:nvPr/>
        </p:nvSpPr>
        <p:spPr>
          <a:xfrm>
            <a:off x="539640" y="2276640"/>
            <a:ext cx="815832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Necesidades Financieras de las Pequeñas y Medianas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539640" y="1601640"/>
            <a:ext cx="8191440" cy="6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538200" y="2889360"/>
            <a:ext cx="813744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4c5b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Crédito para Evolución y Capital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539640" y="3500280"/>
            <a:ext cx="813600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mercio Ex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517680" y="4113360"/>
            <a:ext cx="8157960" cy="5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Crédito para 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260280"/>
          <a:ext cx="2771640" cy="61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277164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95280" y="1916280"/>
            <a:ext cx="8064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2781360"/>
            <a:ext cx="626580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apital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ago de Habe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scuento de Che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delanto de Certificados de Obra Púb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scubierto en Cuenta Corr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rjeta Busi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468360" y="1341360"/>
            <a:ext cx="813744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767"/>
              </a:gs>
              <a:gs pos="100000">
                <a:srgbClr val="4c5b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Crédito para Evolución y Capital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9528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413000"/>
            <a:ext cx="74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pital de trabajo (hasta 24 me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421000"/>
            <a:ext cx="741528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o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Evolución y/o recomposición de capital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14,0% TNAV FI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is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2% por única ve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lazo y amortizac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asta 24 m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uotas mensuales de capital e inter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stema alem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484000" y="33300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Tahoma"/>
              </a:rPr>
              <a:t>Banco de la Provinci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25360"/>
            <a:ext cx="860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051280" cy="1025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39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189000"/>
          <a:ext cx="244800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3"/>
          <p:cNvSpPr/>
          <p:nvPr/>
        </p:nvSpPr>
        <p:spPr>
          <a:xfrm>
            <a:off x="611280" y="162864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826920" y="1844640"/>
            <a:ext cx="806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9528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41300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pital de trabajo (hasta 36 meses – f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060640"/>
            <a:ext cx="741528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tino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Evolución y/o recomposición de capital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Tasa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con Conv. Pago Habere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5,0% TNAV FI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- Resto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7,0% TNAV FI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is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2% anual sobre sal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lazo y amortización: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asta 36 meses, con hasta 3 meses de gra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uotas mensuales de capital e inter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stema alem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5:26:00Z</dcterms:created>
  <dc:creator>.</dc:creator>
  <dc:description/>
  <dc:language>en-US</dc:language>
  <cp:lastModifiedBy>olopez</cp:lastModifiedBy>
  <dcterms:modified xsi:type="dcterms:W3CDTF">2011-07-27T23:01:53Z</dcterms:modified>
  <cp:revision>18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CF21299D682015459F326BF8422E9D6C0700639D6B2D51ADD51185B700508BF7EC96000001381CFA0000082FF6B24BD38E4C90B2C99FED6E9892000006D33F410000</vt:lpwstr>
  </property>
  <property fmtid="{D5CDD505-2E9C-101B-9397-08002B2CF9AE}" pid="3" name="_NewReviewCycle">
    <vt:lpwstr/>
  </property>
  <property fmtid="{D5CDD505-2E9C-101B-9397-08002B2CF9AE}" pid="4" name="_ReviewCycleID">
    <vt:r8>188744739</vt:r8>
  </property>
  <property fmtid="{D5CDD505-2E9C-101B-9397-08002B2CF9AE}" pid="5" name="_ReviewingToolsShownOnce">
    <vt:lpwstr/>
  </property>
  <property fmtid="{D5CDD505-2E9C-101B-9397-08002B2CF9AE}" pid="6" name="_TentativeReviewCycleID">
    <vt:r8>188744739</vt:r8>
  </property>
</Properties>
</file>